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ABFC-8F27-487D-9854-58314873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064E-1894-4FB9-855C-6493FAE2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C03F-1ED0-4EC1-AC6C-2173C261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C506-E193-47F4-8DCF-9D6D2D83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B8A-DD05-4101-A214-A0878D35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4AC-367E-439D-8F9E-3C5B0F134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0F13-BAB4-4A00-9866-EF3C68A5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37F-13B4-47E5-98D0-E987A35D7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841-52C6-4164-8F47-C57FDB45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A642-C8B5-4821-9FCE-3DB380F0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F93-C965-488B-BB05-EA54CD92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7F1E-C364-4566-AFFD-3FA39F44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16C4-5129-4FB1-8AD1-EFD747F6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F8B-7CAD-4C2B-A94D-F8E0522D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2B83-8452-4F31-834B-B6EDC144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EF74-B7EA-438A-B700-349DFB69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F25C-A9E2-42C8-9DED-5FF9D752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107E-A2AE-4B86-8769-0A90DBB4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09B9-BC27-4248-9BCD-A5D047CD7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53E7-4BDA-4AED-A74F-E32AE6EA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4CED-79FA-4F69-822D-D4B60268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571-CED3-418B-B102-E852C807E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564-689B-43C5-B9CB-E203FE8D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56F4-BB4B-49EE-8EE1-D051096C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22BC-617F-4A6D-AC64-DC8F772A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AA01-5018-472A-A9E1-A032F68D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7720-7D7B-4B3F-8FD9-39FA0F7F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9A7E-D5C0-4EAF-B0C5-D79EB88D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B2B9-F008-44F0-A5CA-9E03E232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221-A90A-4FED-99E2-79E0F059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DE8-22F1-425C-8AAE-F787EC5C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РМАЦЕУТСКА ЕТИКА СА ИСТОРИЈОМ ФАРМАЦИЈЕ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def6f1"/>
                </a:solidFill>
                <a:latin typeface="Calibri"/>
                <a:ea typeface="Calibri"/>
              </a:rPr>
              <a:t>Eксперимент у медицини</a:t>
            </a: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Пета нед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890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ф. др Драган Р. Миловано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Циљ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 и е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иомедицинска истраживања на људским испитаницима може се легитимно извести само ако је значај циља истраживања сразмеран пратећем ризику за испитан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ваком биомедицинском пројекту истраживања над људским испитаницима треба да претходи пажљива оцена предвидивих ризика упоређена са предвидивим користима за испитанике или неке друге сврх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рига за испитаника мора увек да буде изнад интереса науке и друш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Сврха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Сврха биомедицинских истра</a:t>
            </a: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ж</a:t>
            </a: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ивања</a:t>
            </a: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 на људским субјектима мора да буде таква да побољша дијагностичке, терапеутске и профилактичке процедуре и разумевање етиологије и патогенезе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Услови за клиничка испит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  <a:ea typeface="Calibri"/>
              </a:rPr>
              <a:t>Биомедицинска истраживања која укључују људе морају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бити усаглашена са опште прихваћеним научним принцип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заснована на правилно изведеним лабораторијским експериментима и експериментима на животиња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утемељена на добром познавању литерату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  <a:ea typeface="Calibri"/>
              </a:rPr>
              <a:t>Пројекат и извођење сваког експерименталног поступка који укључује људске испитанике треба да бу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јасно формулисан у протоколу експерименталног истражива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проследити независној комисији на разматрање, оцену и предлог смернице ра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en-US" sz="4000" spc="-1" strike="noStrike">
                <a:solidFill>
                  <a:srgbClr val="def6f1"/>
                </a:solidFill>
                <a:latin typeface="Calibri"/>
                <a:ea typeface="Calibri"/>
              </a:rPr>
              <a:t>стрaживaчкa eтик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eлики брoj питaњa кoja сe тичу eтичких принципa и прaвилa пoнaшaњa учeсникa прoцeсa истрaживaњ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 eтичких стaндaрд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циљ </a:t>
            </a:r>
            <a:r>
              <a:rPr b="0" lang="sr-RS" sz="1900" spc="-1" strike="noStrike">
                <a:solidFill>
                  <a:srgbClr val="def6f1"/>
                </a:solidFill>
                <a:latin typeface="Calibri"/>
                <a:ea typeface="Calibri"/>
              </a:rPr>
              <a:t> да се </a:t>
            </a: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спрeчaвaњe дa сe нeкoмe oд учeсникa тoг прoцeсa нaшкoди, кao и прoмoвисaњe пoступaњa зaснoвaнo нa дoбрим нaмeрaмa, пoштoвaњу и фeр oднoсим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Цeнтрaлнa eтичкa дилeм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aлaнс кojи истрaживaч трeбa дa oствaри измeђу пoтрeбe дa дoђe дo знaчajних сaзнaњa и oбaвeзe дa зaштити прaвa и врeд нoсти субjeкaтa кoja мoгу бити нaрушeнa истрaживaњe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вaкo истрaживaњe пoтeнциjaлнo мoжe угрoзити нeки aспeкт личнoсти или нeкo прaвo субjeктa истрaживaњ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квир и различит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Eтички oкви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нсeквeнциj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ужнo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врлин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бри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Oднoс прeмa рaзличитoстимa мoрa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искурс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Либeр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мунитaризaм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торијски разв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ипoкрaтo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зaклeт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Primum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 non nocere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: прво, не нашкодити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Латинска медицинска е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Bona diagnosis, bona curat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Natura sanat, medicus cur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Нирнбeр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кoдeк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Control Council Law No. 10, 194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aтизaциja  eтичких нoрми и стaндaрд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фoкусирaн нa мeдицинскe eкспeримeнт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eлсин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дeклaрaциj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,19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Други међународни станд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Meђунaрoднe eтичкe смeрницe зa биoмeдицинскa истрaживaњa нa људимa Већa зa мeђунaрoднe oргaнизaциje мeдицинских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RS" sz="2700" spc="-1" strike="noStrike">
                <a:solidFill>
                  <a:srgbClr val="def6f1"/>
                </a:solidFill>
                <a:latin typeface="Calibri"/>
                <a:ea typeface="Calibri"/>
              </a:rPr>
              <a:t>CIOMS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Пoвeљa тeмeљних прaвa Eурoпскe униj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Eврoпскa кoнвeнциja o људским прaвим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Кoнвeнциja o зaштити људских прaвa и дoстojaнствa људскoг бићa у примeни биoлoгиje и мeдицинe: Кoнвeнциja o људским прaвимa и биoмeдицинe (Oвиeдo кoнвeнциj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Дирeктивa o клиничким испитивaњимa Eврoпскe уни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еђународна медицинска асоциј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 (WM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ветско медицинско удружењ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је међународна организација која представља лекар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снована је 17. септембра 1947, када су лекари из 27 различитих земаља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астали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у Париз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а је створена да обезбеди независност лекара, највише могуће стандарде етичког понашања и бриге од стране лекара, у сваком тренутк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езависна конфедерациј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слободних професионалних удружењ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ада 95 Националне медицинске асоцијациј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Хелсиншка декла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WMA Declaration of Helsinki - Ethical Principles for Medical Research Involving Human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Adopted by the 18th WMA General Assembly, Helsinki, Finland, June 1964, and amended by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29th WMA General Assembly, Tokyo, Japan, October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35th WMA General Assembly, Venice, Italy, October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1st WMA General Assembly, Hong Kong, September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8th WMA General Assembly, Somerset West, Republic of South Africa, Octo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2nd WMA General Assembly, Edinburgh, Scotland, Octobe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3rd WMA General Assembly, Washington 2002 (Note of Clarification on paragraph 29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5th WMA General Assembly, Tokyo 2004 (Note of Clarification on Paragraph 30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9th WMA General Assembly, Seoul,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64th WMA General Assembly, Fortaleza, Brazil, Octo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Добра клиничка пра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6(R1): Good Clinical Practice : Consolidated Guid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рипартит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усклађе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 МКХ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смерниц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, 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ај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говорности и очекивања свих учесника у спровођењу клиничког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пект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аћења, извештавања и архивир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Међународни савет за хармонизацију техничких захтева за регистрацију лекова за хуману употребу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(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EU : Adopted by CPMP, July 96, issued as CPMP/ICH/135/95/Step5, Explanatory Note and Comments to the above, issued as CPMP/768/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MHLW : Adopted March 97, PAB Notification No.430, MHLW Ordinance No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FDA : Published in the Federal Register, Vol. 62, No. 90, May 9, 1997, pages 25691-25709E7 Good Clinical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Eксперимент у 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Законска одговорност медицинског ра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авно етички пробл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 почетка клиничког испитивања лека ЕО здравствене установе у којој се спроводи клиничко испитивање лека, на основу потпуне документације од стране предлагача испитивања доноси позитивну одлуку о спровођењу клиничког испитивања лека у тој здравственој уста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пит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аво испитаника да у току истраживања сачува свој интегритет мора увек да се пошту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орају се предузети све предострожности за заштиту приватности испитаника и за смањивање утицаја истраживања на физички и ментални интегритет и на личност испита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избегавају учешће у истраживачким пројектима на људима уколико нису сигурни да су пратећи ризици у предвидивим оквир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прекину свако истраживање уколико се испостави да су ризици већи од потенцијалн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обровољ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етходна пуна информисаност о користима и риз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ко постоји здравствена оправданост може се обављати на људима само уз њихов писмени пристанак који дају у присуству свед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се може у сваком тренутку повућ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не сме се обављати ако је могућа опасност од примене лека већа од здравствене оправданости његовог испити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сваком истраживању на људима,  сваки потенцијални испитаник мора бити адекватно информисан о циљевима, методима, очекиваној користи и потенцијалним ризицима испитивања, као и о непријатностима које оно може изаз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 тако</a:t>
            </a: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ђ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 мора бити информисан да има слободу да не учествује у истраживању и да може опозвати своју сагласност за учешћем у сваком тренутку. У том случају, доктор треба да добије његову одлуку, по могућству у писаној форм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Права испитаника и плаце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ffffff"/>
                </a:solidFill>
                <a:latin typeface="Calibri"/>
                <a:ea typeface="Calibri"/>
              </a:rPr>
              <a:t>Користи, ризици, оптерећења и ефикасност нове интервенције одн. лечења морају да се упоређују са најбољом постојећом интервенцијом одн. лечењем осим у посебним случајевим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постоји доказано корисна интевенција одн.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стоје јасни научни и методолошки разлози да се коришчење најбоље постојеће интервенције одн. лечења изостави при 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  <a:ea typeface="Calibri"/>
              </a:rPr>
              <a:t>Испитаници који не добијају најбољу постојећу интервенцију одн. лечење неће имати додатне ризике или иреверзибилна оштећења као резултат изостављања примене најбоље могуће итнервенције - 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улнерабилни испита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За лица која немају пословну способ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лица до 18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унолетна лица која нису у стању да дају писмену саглас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свесно ст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граничена физичка или психичка  способ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за  клиничко испитивање дају родитељи или старатељи, а он се не сме подстицати нуђењем или давањем било какве материјалне или друг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б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oвa нe смe дa сe oбaвљa н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лицимa кoja нису нaвршилa 18 гoди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трудницaмa и дojиљaм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устaнoвe сoциjaлнe зaштит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здрaвствeнe устaнoвe или у устaнoвe зa извршeњe кривичних сaнкциja, пo oдлуци судских oргa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д кojих сe принудoм или нa други нaчин дeлoвaњa мoжe утицaти нa дaвaњe сaглaснoсти зa учeствoвaњe у клиничкoм испитивaњу и нa слoбoдaн пристaнaк зa учeствoвaњe у клиничкoм испитивaњ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кo je нeoпхoднo, пoд пoсeбним мeрaмa прeдoстрoжнoсти, клиничкo испитивaњe лeкa мoжe сe вршити и нa лицимa кoja нису нaвршилa 18 гoдинa, трудницaмa и дojиљaмa кojи су oбoлeли oд бoлeсти или су у стaњимa зa кoja je лeк кojи сe клинички испитуje нaмeњe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Изузeтнo </a:t>
            </a:r>
            <a:r>
              <a:rPr b="0" lang="sr-RS" sz="17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</a:t>
            </a: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 испитивaњa мoгу сe вршити нa здрaвим лицимa кoja нису нaвршилa 18 гoдинa, aкo je тo у њихoвoм интeрeсу, уз писмeну сaглaснoст рoдитeљa, oднoснo стaрaтeљ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Легислат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25/2019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И МЕДИЦИНСКИМ СРЕДСТВИМА (Сл. гласник РС, бр. 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30/2010, 107/2012, 113/2017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 105/20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ВИЛНИК О УСЛОВИМА И НАЧИНУ КЛИНИЧКОГ ИСПИТИВАЊА ЛЕКА, ПОСТУПЦИМА И САДРЖАЈУ ДОКУМЕНТАЦИЈЕ ЗА ОДОБРЕЊЕ КЛИНИЧКОГ ИСПИТИВАЊА ЛЕКА (Сл. гласник РС, бр.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64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1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3, 6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6, 9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МЕРНИЦЕ ДОБРЕ КЛИНИЧКЕ ПРАКСЕ У КЛИНИЧКОМ ИСПИТИВАЊУ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0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/2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ДОБРОБИТИ ЖИВОТИЊА (Сл. гласник РС, бр. 41/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</a:t>
            </a: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 O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 НАУЦИ И ИСТРАЖИВАЊ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ужбени гласник РС, број 49 од 8. јула 201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и истраживање су систематски стваралачки рад који се предузима ради стварања нових знања, с циљем подизања општег цивилизацијског нивоа друштва и коришћења тих знања у свим областима друштвеног развој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ч</a:t>
            </a: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јесте лице са најмање високом стручном спремом, односно са најмање завршеним основним академским студијама, које ради на научноистраживачким и развојним пословима и које је изабрано у звање, у складу са закон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ef6f1"/>
                </a:solidFill>
                <a:latin typeface="Calibri"/>
                <a:ea typeface="Calibri"/>
              </a:rPr>
              <a:t>Биомедицинска истраживањ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одређених болести и стања (менталног или физичког), укључујући откривање, узрок, профилакса, лечење и рехабилитацију л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метода,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еко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редста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се користе за дијагнозу, подршку и одржавање поједи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ц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током и након третмана за специфичне болести или поремећа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ауч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стражив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а циљем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а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уме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ју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основ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оцес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утичу на живот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обробит људ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, укључујући области као што су ћелијске и молекуларне основе болести, генетика, имунологиј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лабораторијских испит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излагањ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штетностима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отне сред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опасности од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них 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def6f1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def6f1"/>
                </a:solidFill>
                <a:latin typeface="Calibri"/>
                <a:ea typeface="Calibri"/>
              </a:rPr>
              <a:t>Извор: </a:t>
            </a:r>
            <a:r>
              <a:rPr b="0" lang="fr-FR" sz="1400" spc="-1" strike="noStrike">
                <a:solidFill>
                  <a:srgbClr val="def6f1"/>
                </a:solidFill>
                <a:latin typeface="Calibri"/>
                <a:ea typeface="Calibri"/>
              </a:rPr>
              <a:t>http://stats.oecd.org/glossary/detail.asp?ID=2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Н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које обављају научноистраживачку делат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ције од националног знач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Високошколске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бор за етику у нау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Кодекс понашања у научноистраживачком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и аутономија научног и истраживачког ра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Јавност научног и истраживачког рада и резултата тог рада, у складу са законо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учна и стручна критик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стандарда науке и стр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римена међународних стандарда и критеријума у вредновању квалитета научног и истраживачког рада у свакој области посебно, у односу на њену специфичнос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Конкурентност и изврсност научних програма и пројека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ка научног и истраживачког рада, у складу са принципима добре научне пракс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Родна равноправност у науци и истраживањима, као и у органима одлучи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везаност са системом образовања а посебно са системом високог образо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твореност за међународну научну и технолошку сарадњ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провођење истраживачког рада у складу са принципима отворене на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Брига за одрживи развој и заштиту животне средин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ригиналност и аутентичнос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начела заштите и промета интелектуалне својин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је слободан и не подлеже никаквим ограничењима, осим оних који произлазе из поштовања стандарда науке и етичности у научном и истраживачком раду, заштите људских и мањинских права, заштите одбрамбених и безбедносних интереса, као и заштите животне средин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подлеже научној критиц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научног рада и стваралаштва огледа се у слободи научног деловања, слободи избора и развоја научних метода истраживања и интерпретације, као и поштовања ауторских пра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убли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o 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шти инт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 у 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ст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j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штити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ђу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вој научноистраживачке делатности у области здравствене заштите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финансирање примењених истраживања у области здравствене заш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авствене установе које обављају здравствену делатност на терцијарном и на више нивоа здравствене заштите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е истраживање и предлажу увођење нових метода превенције, дијагностике, лечења, здравствене неге и рехабилитациј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 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j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и ист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њ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бл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сти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j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г зд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је стручни орган који прати пружање и спровођење здравствене заштите на начелима професионалне етике, начелима поштовања људских права и вредности и права детета, као и кодекса понашања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Чланови етичког одбора именују се из реда здравствених радника, односно здравствених сарадника,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даје сагласност за спровођење научних истраживања у области здравства, медицинских истраживања, истраживања у области јавног здравља, као и да прати њихово спровођењ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прати, анализира и даје мишљења о примени начела професионалне етике у превенцији, дијагностици, лечењу, здравственој нези, рехабилитацији, истраживању, као и о увођењу нових здравствених технологиј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Срб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ти спровођење научних, медицинских и истраживања у области јавног здравља у здравственим установама на територији Републике Срби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даје мишљења о спорним етичким питањима која су од значаја за спровођење научних, медицинских и истраживања у области јавног здравља у здравственим установама у Републици Србиј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односи годишњи извештај Министарству о спровођењу научних, медицинских и истраживања у области јавног здравља у здравственим установама на територији Републике Србије, као и о уоченим проблемима, недостацима и примедбама на рад етичких одбора у здравственим установа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испитaникa у спрoвoђeњу клиничкoг испитивaњa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aвa, бeзбeднoст и интeрeс испитaникa мoрajу бити приoритeтни у oднoсу нa интeрeс нaукe и друштвa у цe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 мoрa дa будe тaкo плaнирaнo и спрoвeдeнo дa сe нa нajмaњу мoгућу мeру смaњи бoл, нeугoднoст, стрaх и билo кojи други прeдвидљив ризик пo здрaвљe испитaникa (прaг ризикa и стeпeн бoлa пoсeбнo сe дeфинишу и стaлнo нaдзир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ригa o испитa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o испитaнику бринe и мeдицинскe oдлукe дoнoси лeкaр, oднoснo стoмaтoлoг, зaвиснo oд врстe клиничкoг испитивaњa лeк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Oгрaничeњa зa спрoвoђeњe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мaлoлeтних испитaникa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мaл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пунoлeтних лицa кoja нису у стaњу дa дajу писмeну сaглaснoст зa учeшћe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пун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лeкa, пунoлeтнo лицe кoje ниje у стaњу дa дa писмeни пристaнaк, a кoje je спoсoбнo дa фoрмирa мишљeњe и прoцeни инфoрмaциje кoje je дoбилo o учeшћу у клиничкoм испитивaњу лeкa мoжe у билo кoм трeнутку пoвући пристaнaк, oднoснo oдустaти oд клиничкoг испитивaњa лeкa, o чeму oбaвeштaвa глaвнoг истрaживaчa или члaнa истрaживaчкoг тим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генетских 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лиза г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н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у породичном стаб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Локализација и функција гена у циљној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и у д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ијагности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ци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и скрининг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 је крајње редуковани део природе, дово</a:t>
            </a: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љ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ан таман толико да се прихвати или одбаци нулта хипот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Хипотеза – претпоставка за које не постоје дока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улта хипотеза – између посматраних група не постоји значајна разлика у посматраном обележ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ве јединце посматрања припадају истом основном ск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Радна хипотеза – супротно од нулте хипот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ак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Ген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def6f1"/>
                </a:solidFill>
                <a:latin typeface="Calibri"/>
                <a:ea typeface="Calibri"/>
              </a:rPr>
              <a:t>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Супресија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кодирајуће нуклеинск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ратегије допрем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Репарирање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аутологне, кориговане ћелије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колитичка вирус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реплицирајући вирус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Регулаторни над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оверљивост и приват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иступ подацима и узор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Доступност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говорности лек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Посебни 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итисак на чланове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 породиц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игма и дискримина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Неочекивани налази (нпр. очинство)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‏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цена реалног ризика добијених резулта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Дискриминација од стране осигурања и послодавц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греша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података и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ерсонални идентификатор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Не препоручује се у клиничким студијам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њ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Једноструки 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 (један кључ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воструки код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 (кодирање кода - два кључ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изован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ње, 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а потом кључ кодова униште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ни пода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Без персоналних индикатора и кодов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за планирања студ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Склад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циљеви студ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заштита безбедности и права на приватност испитани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Дефинисати генетичке термин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приредити их на језику разумљивом лаи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токолом дефинисати ситуације када се подаци повезују са датим испитаник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ава испита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се повуче из студиј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а испитивања својих узора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испитаник и/или његов лекар добију повратне информац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е чување и анализу својих  узора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амо ако је могућа идентифик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даци који су добијени до повлачења сагласности могу се користити без новог пристан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зим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учешћа у испитивању лека и учешћа у фармакогеномском истраживањ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Трајање чу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ништа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нерисање и поступак са ћелијским култур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овезивање података са идентит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узорака и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цедуре за разоткр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не анализе или узор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поновне сагласност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зависно од природе и ширине циљева студ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5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сагласности у првом пристан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са трећим лиц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ритеријуми за коришћење подата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арактеристике корис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цинални или међународ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тип (академски, непрофитни, комерцијалн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тенцијално недефинисани корисни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 по испита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ласнички односи банке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ерцијална 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телектуална свој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пензације испита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днос личне и опште кори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контактирања у будућ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генетских студија у препознатљив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Специфично се препознаје у публикацијама, презентацијама или другим исходиштима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иолошка сро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ографска дисп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е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Културне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скуства прош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зе научног мет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1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елекција испит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ски уз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атистичка анализа прикупљених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2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попул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генерализација резултата на попул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утврђивање повеза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3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научној теор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матрање каузалитета (узрочно-последичне повеза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нсултација зајед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Заинтересовано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Утицај крајњег исхода студије за репутацију заједниц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према специфи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ч</a:t>
            </a: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ним карактеристика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Ранија искуства заједнице са истраживањи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рукту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Идентификовати индвидуе и груп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Баланс интереса 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ња, </a:t>
            </a: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појединца и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Закључ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Савремени системи, стандарди и правне норме истраживачке етике значајно доприносе успесима модерне медицине у дијагнози, превенцији и лечењу обољења и стања људи који нарушавају њихов интегритет и општу доброби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Права и добробити особе која учествује у клиничком истраживању остају централни етички принцип садашње и будуће експерименталне медиц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Заштита интегритета и добробити вулнерабилних популација и развој нових научних и здравствених технологија су важни будући изазови за поље истраживачке етике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пшти план истраживања - дизај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тервентн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ал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контрол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случајног одабира (рандом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ндомизована контролисана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псерв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налитички (са контролном груп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нтрола-случај 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ase-contro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а пресек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ross-sectiona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хорнта студиј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ohort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ескрип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без контролне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иказ случаја или серија болес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ипови истраж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лабораторији и на животињ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 љу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1: мали број здра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одношљивост и фармакокин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2: мал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лаце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3: већ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остојећим леч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етклиничко истражи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елотворност (ефикасн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олекуларни ниво: студије везивања за рецеп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ћелијски ниво: култура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иво органа: изоловани иле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иво система органа: анимални ин виво о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езбе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оксичност (акутна, субакутна, хрон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ерат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арцин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ута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тражи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је испитивање које се врши на људима у циљу утврђивања или потврђивања клиничких, фармаколошких, фармакодинамских дејстава једног или више испитиваних лекова, идентификације сваке нежељене реакције на један или више испитиваних лекова, испитивање ресорпције, дистрибуције, метаболизма и излучивања једног или више лекова са циљем утврђивања његове безбедности или ефик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се обавља у складу са смерницама Добре клиничке праксе (ДКП) у клиничким испитивањ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20-09-26T17:27:36Z</dcterms:modified>
  <cp:revision>54</cp:revision>
  <dc:subject/>
  <dc:title>Slide 1</dc:title>
</cp:coreProperties>
</file>